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4F0-A21E-43B6-91E0-389DE425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B6F-97AC-4645-B095-09297DEC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E16-9CF4-4522-8CF3-7577C41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A48-B1CE-4DA9-BA44-79A97CA0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F45-638C-4F4B-9D50-102E092D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549-F2DC-499E-808E-96BF92F6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C72-E0FC-4D1E-9CAB-95DF15F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305-A542-4319-AB9C-3FA4C64D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6FE-5484-4D38-96E4-4BDABBC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585-1CF6-4AEF-8C44-34999A3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84F-A8D0-4042-9ED0-14A7B35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F1C-9EE0-4CD8-B4C2-9D4913E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4DC8-4C0E-463C-86D9-6D970261FC8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9 Mám srdce plné rad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ám srdce plné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deň sa teším Pán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smiem sa z Bož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 sýtiť nebies man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lný požehnania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voriteľ skláň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nes, v 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lný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nám zvest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v tomto dare z ra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h svoju lásku zjav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Tvorcu s Tvorstvom spá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lný požehnania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voriteľ skláň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nes, v 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lný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po práci nás Boží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ve k odpočinku znova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án v dome svojom v svätý čas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nás má pokrm Sl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lný požehnania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voriteľ skláňa 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nes, v 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lný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 tom tvojom Slove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živej vody prameň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, ktorý srdcia naše zn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ím smäd po tebe z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lný požehnania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voriteľ skláňa 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nes, v 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lný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49:11Z</dcterms:modified>
  <cp:revision>24</cp:revision>
  <dc:subject/>
  <dc:title>Je veľký náš Pán, on slávy je Kráľ Nech do všetkých strán  spev vrúcnych znie chvál.</dc:title>
</cp:coreProperties>
</file>